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CEAF-4129-432A-B0AA-6FCE3DE0A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4E61-0085-4085-906F-94C92A1AB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8472-3E1B-4ED3-98F3-BC240B215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C174-7257-4DFD-9EE8-2935C16C47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38C8-EA3C-47C4-974D-8746316A62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377C-4D02-482B-AB8A-F64B9C8C5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00DA-EBD0-4CDE-B48D-FEE9BD725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E0BC-BCCE-487A-A124-5390974A1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D377-06BD-4D7A-9E65-6BCF2DF5B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713E2-2FF8-4234-8820-4380C01C0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4565-A3BC-4993-849F-C12B0B36A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5052-9BBA-4791-9CE2-7D11D53E5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E1D6A-DF3A-4919-A0B8-DD439B0B60D0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295280" y="304920"/>
            <a:ext cx="78487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304920" y="289548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Module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Lecture 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ELECTROTHERAPY</a:t>
            </a:r>
            <a:br>
              <a:rPr sz="3600"/>
            </a:b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Alternating currents</a:t>
            </a: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76320" y="227160"/>
            <a:ext cx="144144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ferential currents (IFC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C are low-frequency alternating currents of a sinusoidal shape which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occur endogenously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the tissues, by interference (superposition) of the middle-frequency currents from two independent circuits, which differ in frequency from 0-100 Hz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C are obtained by crossing power lines of two middle-frequency circuits which have a different frequency and the same strength. By phenomenon of interference, at a site of crossing,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bio-powe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obtained, whose frequency amounts to the difference in frequency of the component currents, that’s why they are called </a:t>
            </a:r>
            <a:r>
              <a:rPr b="0" lang="en-US" sz="2700" spc="-1" strike="noStrike">
                <a:solidFill>
                  <a:srgbClr val="cc0000"/>
                </a:solidFill>
                <a:latin typeface="Calibri"/>
              </a:rPr>
              <a:t>“crossed current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ferential currents (IF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equency of one circuit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is always constant and amounts to 4000Hz. The other circuit has a variable frequency which amounts from 3900 to 4000Hz or 4000 to 4100Hz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obtained current- IFC (C) can be constant or rhythmically variable within the range from 0 to 100Hz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sides its frequency, a current changes its intensity of interference from maximal interference (100%) to 0 and vice vers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ological effect of IC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219320" y="1600200"/>
            <a:ext cx="7238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1 to 10 Hz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stimulatory effect on the neuromuscular system, causing muscle contraction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1 to 50 Hz -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mulatory eff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1 to 100 Hz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ighly trophic effect, antiedematous, analgesic eff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60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 100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Hz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timulate bone heal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rrent with a rhythmic frequency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90 to 100 Hz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as sympaticolytic and analgesic effec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ummed biological effects of IC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imulatory on the blood flow, causing vasodilation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leads to the increased blood flow and oxygenation of the tissues, as well as faster toxin and pain mediator elimin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ges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because of improved circulation and oxygenation of the tissues and the effect it has on nerve ending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creased excitability and conductability of the peripheral nerv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has a stimulatory effect on the damaged nerv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hibitory effect on the sympaticus and stimulatory on the parasympatic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crease of the lymph flow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resorption of ed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roved muscle mass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and promoted wound heal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imulated formation of callus in fractu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ge of pH value towards the alcalinity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ti-inflammatory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creasing circulation, metabolism and resorp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imulatory on the transversely-striated and smooth muscle fib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sing of I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99072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rength of a current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requency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z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o a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uration of the application tim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to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 minu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umber of treatments</a:t>
            </a: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lim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cations for I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189080" y="1279440"/>
            <a:ext cx="7924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-traumatic conditions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usi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orti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xati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e fractures and its complication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eudoarthros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Sudeck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vical and lumbar syndrom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algia, neurit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s after the nerve inju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hrit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thros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Bekhterev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H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heumatoid arthritis, non-articular rheuma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b. Burge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ynaud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gh-frequency 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an alternating current with a frequency over 300 kHz. HFC represents 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pecific form of thermotherap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ich uses heat, obtained by 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onversio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electrical power, to be absorbed by tissue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heat produced this way in the organism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s called endogenous heat,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ecause it is developed in the tissues themselves, unlike the exogenous heat, which acts externally on the ski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F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rt-wave diathermi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286000" y="2057400"/>
            <a:ext cx="5029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2,12 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1,06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,56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z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7,12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219320" y="30492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H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219320" y="1600200"/>
            <a:ext cx="777240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effect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ary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219320" y="3924360"/>
            <a:ext cx="777240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ary effects of H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5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circ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nervous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mus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connective t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metabolism and enzyme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ostatic and bactericidal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NG CURR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Of intensity and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Direction of ion fl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304920"/>
            <a:ext cx="838224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lectrodes for SWD and methods of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1042920" y="206064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halcogenide glass electrodes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ic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Plate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rubber electrodes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Rabb’s electrodes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ic field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il of an electrode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onode and mi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Induction cable or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sing of intensity is performed 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t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maximal dose is up to 100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se is usually determin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sed on the subject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tient’s feeling, whereby pleasant and mild warmth should be fe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ing on the radiation intensity, the following doses may be appli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Atherm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when warmth is not fe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Oligotherm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when only mild warmth is fe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Thermal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when pleasant warmth is felt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Hypertherm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when strong warmth is fe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ation of the application time is from 15 to 20 minu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380880" y="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cations for SW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heumatic diseases in chronic st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itions after the injury of the locomotive apparatus (except the acute on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rve diseases (neuralgia and neu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ic diseases of ear, nose and throat (sinusitis, otiti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ynecological chronic non-specific inflammatory diseases (adnexitis, parametritis, salpingitis, adhesions after gynecological surgeries, primary and secondary ster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ic non-specific pulmonary diseases (chronic bronchitis, after pneumonia and exudative pleuritis, lung absce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n diseases: furunculosis, carbuncle, hydroadeni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rve diseases (neuralgia and neu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Contraindications for SW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cute inflammations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ebrile conditions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Malignant tumor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Tuberculosi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Bleeding tendenc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Menstruatio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Metal objects at the site of applic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Pregnanc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cave abortus)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Obliterating endarteriti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Unadequate sensory response to thermal stimuli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recautionary measures!!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1752480" y="1905120"/>
            <a:ext cx="6019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ce-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oden bed or wooden ch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aring aid and w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al im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Farad 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46386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Faraday 183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asymmetr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irregularity of a cy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nly historical impor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762120" y="1905120"/>
            <a:ext cx="4033800" cy="4520880"/>
            <a:chOff x="762120" y="1905120"/>
            <a:chExt cx="4033800" cy="4520880"/>
          </a:xfrm>
        </p:grpSpPr>
        <p:sp>
          <p:nvSpPr>
            <p:cNvPr id="49" name="Line 4"/>
            <p:cNvSpPr/>
            <p:nvPr/>
          </p:nvSpPr>
          <p:spPr>
            <a:xfrm>
              <a:off x="798480" y="4642200"/>
              <a:ext cx="39974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 flipV="1">
              <a:off x="762120" y="1919160"/>
              <a:ext cx="0" cy="2561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Line 6"/>
            <p:cNvSpPr/>
            <p:nvPr/>
          </p:nvSpPr>
          <p:spPr>
            <a:xfrm flipV="1">
              <a:off x="763560" y="1905120"/>
              <a:ext cx="0" cy="2659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939960" y="3168000"/>
              <a:ext cx="371160" cy="24278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2427840"/>
                <a:gd name="textAreaBottom" fmla="*/ 2428200 h 2427840"/>
              </a:gdLst>
              <a:ahLst/>
              <a:rect l="textAreaLeft" t="textAreaTop" r="textAreaRight" b="textAreaBottom"/>
              <a:pathLst>
                <a:path w="360" h="1410">
                  <a:moveTo>
                    <a:pt x="0" y="960"/>
                  </a:moveTo>
                  <a:cubicBezTo>
                    <a:pt x="75" y="480"/>
                    <a:pt x="150" y="0"/>
                    <a:pt x="180" y="60"/>
                  </a:cubicBezTo>
                  <a:cubicBezTo>
                    <a:pt x="210" y="120"/>
                    <a:pt x="150" y="1230"/>
                    <a:pt x="180" y="1320"/>
                  </a:cubicBezTo>
                  <a:cubicBezTo>
                    <a:pt x="210" y="1410"/>
                    <a:pt x="330" y="720"/>
                    <a:pt x="360" y="60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1425600" y="2355840"/>
              <a:ext cx="165240" cy="32925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210" h="2010">
                  <a:moveTo>
                    <a:pt x="0" y="1350"/>
                  </a:moveTo>
                  <a:cubicBezTo>
                    <a:pt x="90" y="675"/>
                    <a:pt x="180" y="0"/>
                    <a:pt x="180" y="90"/>
                  </a:cubicBezTo>
                  <a:cubicBezTo>
                    <a:pt x="180" y="180"/>
                    <a:pt x="0" y="1770"/>
                    <a:pt x="0" y="1890"/>
                  </a:cubicBezTo>
                  <a:cubicBezTo>
                    <a:pt x="0" y="2010"/>
                    <a:pt x="150" y="870"/>
                    <a:pt x="180" y="810"/>
                  </a:cubicBezTo>
                  <a:cubicBezTo>
                    <a:pt x="210" y="750"/>
                    <a:pt x="180" y="1440"/>
                    <a:pt x="180" y="1530"/>
                  </a:cubicBezTo>
                  <a:cubicBezTo>
                    <a:pt x="180" y="1620"/>
                    <a:pt x="180" y="1380"/>
                    <a:pt x="180" y="135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>
              <a:off x="2760840" y="3060360"/>
              <a:ext cx="431640" cy="24847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484720"/>
                <a:gd name="textAreaBottom" fmla="*/ 2485080 h 2484720"/>
              </a:gdLst>
              <a:ahLst/>
              <a:rect l="textAreaLeft" t="textAreaTop" r="textAreaRight" b="textAreaBottom"/>
              <a:pathLst>
                <a:path w="540" h="1920">
                  <a:moveTo>
                    <a:pt x="0" y="1320"/>
                  </a:moveTo>
                  <a:cubicBezTo>
                    <a:pt x="75" y="660"/>
                    <a:pt x="150" y="0"/>
                    <a:pt x="180" y="60"/>
                  </a:cubicBezTo>
                  <a:cubicBezTo>
                    <a:pt x="210" y="120"/>
                    <a:pt x="180" y="1590"/>
                    <a:pt x="180" y="1680"/>
                  </a:cubicBezTo>
                  <a:cubicBezTo>
                    <a:pt x="180" y="1770"/>
                    <a:pt x="150" y="570"/>
                    <a:pt x="180" y="600"/>
                  </a:cubicBezTo>
                  <a:cubicBezTo>
                    <a:pt x="210" y="630"/>
                    <a:pt x="330" y="1920"/>
                    <a:pt x="360" y="1860"/>
                  </a:cubicBezTo>
                  <a:cubicBezTo>
                    <a:pt x="390" y="1800"/>
                    <a:pt x="330" y="330"/>
                    <a:pt x="360" y="240"/>
                  </a:cubicBezTo>
                  <a:cubicBezTo>
                    <a:pt x="390" y="150"/>
                    <a:pt x="510" y="1140"/>
                    <a:pt x="540" y="132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1817640" y="3236400"/>
              <a:ext cx="339840" cy="234216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2342160"/>
                <a:gd name="textAreaBottom" fmla="*/ 2342520 h 2342160"/>
              </a:gdLst>
              <a:ahLst/>
              <a:rect l="textAreaLeft" t="textAreaTop" r="textAreaRight" b="textAreaBottom"/>
              <a:pathLst>
                <a:path w="360" h="2220">
                  <a:moveTo>
                    <a:pt x="0" y="1650"/>
                  </a:moveTo>
                  <a:cubicBezTo>
                    <a:pt x="75" y="855"/>
                    <a:pt x="150" y="60"/>
                    <a:pt x="180" y="30"/>
                  </a:cubicBezTo>
                  <a:cubicBezTo>
                    <a:pt x="210" y="0"/>
                    <a:pt x="180" y="1110"/>
                    <a:pt x="180" y="1470"/>
                  </a:cubicBezTo>
                  <a:cubicBezTo>
                    <a:pt x="180" y="1830"/>
                    <a:pt x="150" y="2160"/>
                    <a:pt x="180" y="2190"/>
                  </a:cubicBezTo>
                  <a:cubicBezTo>
                    <a:pt x="210" y="2220"/>
                    <a:pt x="330" y="1740"/>
                    <a:pt x="360" y="165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>
              <a:off x="2368440" y="2708280"/>
              <a:ext cx="228600" cy="37177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360" h="2520">
                  <a:moveTo>
                    <a:pt x="0" y="1410"/>
                  </a:moveTo>
                  <a:cubicBezTo>
                    <a:pt x="75" y="1965"/>
                    <a:pt x="150" y="2520"/>
                    <a:pt x="180" y="2310"/>
                  </a:cubicBezTo>
                  <a:cubicBezTo>
                    <a:pt x="210" y="2100"/>
                    <a:pt x="150" y="300"/>
                    <a:pt x="180" y="150"/>
                  </a:cubicBezTo>
                  <a:cubicBezTo>
                    <a:pt x="210" y="0"/>
                    <a:pt x="330" y="1200"/>
                    <a:pt x="360" y="141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chnique of appl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189080" y="1968480"/>
            <a:ext cx="78026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Stable meth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Bipolar technique with metal plate electro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Labile meth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onopolar technique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. Active electrode is in a shape of a cyllinder or in a shape of a bigger or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smaller brush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Neofarad </a:t>
            </a:r>
            <a:r>
              <a:rPr b="1" lang="sv-SE" sz="44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" name="Group 2"/>
          <p:cNvGrpSpPr/>
          <p:nvPr/>
        </p:nvGrpSpPr>
        <p:grpSpPr>
          <a:xfrm>
            <a:off x="2438280" y="2438280"/>
            <a:ext cx="5786640" cy="1914480"/>
            <a:chOff x="2438280" y="2438280"/>
            <a:chExt cx="5786640" cy="1914480"/>
          </a:xfrm>
        </p:grpSpPr>
        <p:sp>
          <p:nvSpPr>
            <p:cNvPr id="61" name="Line 3"/>
            <p:cNvSpPr/>
            <p:nvPr/>
          </p:nvSpPr>
          <p:spPr>
            <a:xfrm>
              <a:off x="2468520" y="4316040"/>
              <a:ext cx="5756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4684680" y="3061080"/>
              <a:ext cx="238320" cy="12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6624720" y="3061080"/>
              <a:ext cx="237960" cy="1240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2682720" y="3061080"/>
              <a:ext cx="238320" cy="12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7"/>
            <p:cNvSpPr/>
            <p:nvPr/>
          </p:nvSpPr>
          <p:spPr>
            <a:xfrm flipV="1">
              <a:off x="2438280" y="2438280"/>
              <a:ext cx="0" cy="1914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Rectangle 8"/>
          <p:cNvSpPr/>
          <p:nvPr/>
        </p:nvSpPr>
        <p:spPr>
          <a:xfrm>
            <a:off x="1600200" y="4648320"/>
            <a:ext cx="67816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u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1 ms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au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20 m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used for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diagnostic purp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Neofarad 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Has a stimulative effect on the sensory and motor nerves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etanic contraction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t is us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lassic electrodiagno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As labile faradization in psychogenic disord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hysteria and enure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54936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ranscutaneous electrical nerve stimulation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ТЕNS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371600" y="29718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Impulses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Usually in an array of impulses of 7 or more very short impuls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mpulse lasts from 0,0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0,4 m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 and the frequency is fro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75 to 125 Hz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mpulses are triangular or rectangular, biphasic or monoph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2666880" y="1905120"/>
            <a:ext cx="4265640" cy="877320"/>
            <a:chOff x="2666880" y="1905120"/>
            <a:chExt cx="4265640" cy="877320"/>
          </a:xfrm>
        </p:grpSpPr>
        <p:sp>
          <p:nvSpPr>
            <p:cNvPr id="72" name="Line 4"/>
            <p:cNvSpPr/>
            <p:nvPr/>
          </p:nvSpPr>
          <p:spPr>
            <a:xfrm>
              <a:off x="2666880" y="2673360"/>
              <a:ext cx="4265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Line 5"/>
            <p:cNvSpPr/>
            <p:nvPr/>
          </p:nvSpPr>
          <p:spPr>
            <a:xfrm flipV="1">
              <a:off x="2681280" y="1905120"/>
              <a:ext cx="0" cy="761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>
              <a:off x="282744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7"/>
            <p:cNvSpPr/>
            <p:nvPr/>
          </p:nvSpPr>
          <p:spPr>
            <a:xfrm>
              <a:off x="32608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8"/>
            <p:cNvSpPr/>
            <p:nvPr/>
          </p:nvSpPr>
          <p:spPr>
            <a:xfrm>
              <a:off x="337032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>
              <a:off x="35146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>
              <a:off x="365904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>
              <a:off x="51436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>
              <a:off x="311616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13"/>
            <p:cNvSpPr/>
            <p:nvPr/>
          </p:nvSpPr>
          <p:spPr>
            <a:xfrm>
              <a:off x="297180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4"/>
            <p:cNvSpPr/>
            <p:nvPr/>
          </p:nvSpPr>
          <p:spPr>
            <a:xfrm>
              <a:off x="525132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5"/>
            <p:cNvSpPr/>
            <p:nvPr/>
          </p:nvSpPr>
          <p:spPr>
            <a:xfrm>
              <a:off x="535932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6"/>
            <p:cNvSpPr/>
            <p:nvPr/>
          </p:nvSpPr>
          <p:spPr>
            <a:xfrm>
              <a:off x="55054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7"/>
            <p:cNvSpPr/>
            <p:nvPr/>
          </p:nvSpPr>
          <p:spPr>
            <a:xfrm>
              <a:off x="56134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8"/>
            <p:cNvSpPr/>
            <p:nvPr/>
          </p:nvSpPr>
          <p:spPr>
            <a:xfrm>
              <a:off x="57214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9"/>
            <p:cNvSpPr/>
            <p:nvPr/>
          </p:nvSpPr>
          <p:spPr>
            <a:xfrm>
              <a:off x="50338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ranscutaneous electrical nerve stimulation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ТЕNS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Еlectrostimulation for pa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gate contro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"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sence of endogenous opioid and non-opioid system in achieving the analgesic effect: endorphins and enkephal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dle-frequency curr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Interferential </a:t>
            </a:r>
            <a:r>
              <a:rPr b="1" lang="sr-Latn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Nemec’s</a:t>
            </a:r>
            <a:r>
              <a:rPr b="1" lang="sr-Latn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cur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France YU"/>
                <a:ea typeface="Times New Roman"/>
              </a:rPr>
              <a:t>Sinusoid-modulated currents </a:t>
            </a:r>
            <a:r>
              <a:rPr b="1" lang="en-GB" sz="2400" spc="-1" strike="noStrike">
                <a:solidFill>
                  <a:srgbClr val="00b0f0"/>
                </a:solidFill>
                <a:latin typeface="France YU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France YU"/>
                <a:ea typeface="Times New Roman"/>
              </a:rPr>
              <a:t>Russian stimulation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8:31:21Z</dcterms:created>
  <dc:creator>WIN98SE</dc:creator>
  <dc:description/>
  <dc:language>en-US</dc:language>
  <cp:lastModifiedBy>Nada Miklja</cp:lastModifiedBy>
  <dcterms:modified xsi:type="dcterms:W3CDTF">2023-09-26T08:53:48Z</dcterms:modified>
  <cp:revision>57</cp:revision>
  <dc:subject/>
  <dc:title>NAIZMENIČNE STRUJE</dc:title>
</cp:coreProperties>
</file>